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2.gif" ContentType="image/gif"/>
  <Override PartName="/ppt/media/image15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3.gif" ContentType="image/gif"/>
  <Override PartName="/ppt/media/image1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79E-9F99-44E8-B762-6351EF1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C12-592E-4743-B682-1A5A2352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B35-0DC6-4549-AC63-A3283FE1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416-BB9D-48CF-9194-64B98713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DD4D-E791-41AC-BEFC-F026E0D4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338A-D80F-4F99-982F-D1E034BF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585C-4D4A-4857-87D5-7192F258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B97E-D15D-4658-95C7-13C53647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0994-0F0C-4C2B-80A3-2DB4E32C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EA87-AA9A-4A08-949E-55280656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35DE-81DF-4DA0-8E63-A5F8504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C7F-97E9-4F19-B614-1A3038AF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12BA-33F1-4F0F-97B8-330872A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246D-520E-411E-8107-0F22789F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8617-72F5-4DC4-BDAC-4275C167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1618-05C2-4DC4-8BAF-D9153186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C608-699D-47F8-ABA8-47D84AED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9552-1B2E-4927-B8A9-A91449F8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8A4B9-4003-4A45-A5DD-417332FE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69AE-9CE3-41A0-A813-B0A19442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EB1C-5410-4E6B-9B76-E256C9D3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BE8A3-DEEC-41E8-83E1-74867363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25A-A849-449A-92EE-946B7CD9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6E3D-2AD2-49B2-9603-02370DBE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48C77-34C4-4A50-BA1E-BF0334AF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C36D-7160-4584-B5E3-0956F9BD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AF95E-08E2-4F61-8940-D92D4C33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EB87-98A9-4F5E-90B8-D15905E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44A2-7FE4-45D0-8578-430A622B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23F6-1227-4036-94E3-4BC7D99B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02D29-C7E2-4FAC-AA9D-F8E05FA3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7552-A27E-4060-94ED-4560C952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24EF0-9C83-4F3C-B8FA-BDBC50E1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231-F119-4D0A-A57D-C20F50E8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09B0-2A3F-459C-9EF3-FE2952DC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B59A3-BEC9-4650-BF3F-084C152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3D6A-43EF-4E7E-9459-A2F23B0C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B256-51CF-409A-8DF6-93202E4F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472FD-E3FD-4086-B871-3F883EC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FAF32-8DC2-4339-A46F-E681B7E9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7363-34D6-496E-BAA6-12F3FE79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758A-ADBC-452B-AFF9-1CFA2D87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7348-7EE9-417F-BAFC-62C850BF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5C87C-995B-441D-B3BE-4F20689E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A6F-3F70-40B4-A6A4-4EBC73E6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C6DB-08C9-40D1-BC99-D182EED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025B-ED6E-4DA7-90F3-41F79014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73D37-0EB8-4B71-B613-D8CD14B4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D98F2-DAA6-41D1-A8F1-E78A7180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5831C-5F51-46C8-A5EF-483DA622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7FF7-98B2-4514-AAE0-C06E64BA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83F22-1713-4157-9F6F-479F59E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00EE-CA0E-43EA-AA27-8FEEC5BD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BDD7-B6D0-4EEF-AFE8-1A193D65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A10F8-6541-49DD-9A1D-7647F1D1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780-5590-4FDD-BE26-2A54146E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4A39F-DA60-44DF-82B8-1E94032A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BCA2E-669A-4965-8BF4-34ABAA1F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2D2FB-7F33-44DF-BF06-49AA8392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D6194-AC38-4019-BE42-867F6DC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B6C23-1504-4F50-A13A-E9503062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A03C-F7AB-426C-B749-CD8BD2E8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3DB41-E509-4082-AC3D-D52F081E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0E71B-4097-4EB7-8BA2-63B4C5DB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498F6-CAE9-498C-A15B-895ABF02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D7A58-B321-412F-A4BA-605B6C49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45E-3AA2-49A4-A20C-E1B5EA4C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4BFB7-5C77-419C-957A-16D3762B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53A27-C9F4-4DBB-B7BF-54226755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8F02-03D7-494D-B9DE-DF684A02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8C7FB-8168-4D8F-956B-C679393C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3A96D-4C94-4850-9728-BB76B78B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98DF6-F050-44B9-A899-5705CBB5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77B28-3188-4B70-B44B-7BE670F4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B348-B0F7-4A66-847E-6070A2B2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FB9C8-EBD2-452A-B40E-E52174C6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60264-F258-4AB9-9695-99C975C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777-13B3-4361-B407-C82221C1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D91F5-55BA-4E01-A317-9760A88C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AFF27-CE39-47D3-B5F0-62CC3114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663D0-AD24-47F4-8855-65A8EC76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DF4A0-87F3-4CAB-B07E-38A6EF57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0C5A-9DB4-4E4B-81F4-3291D884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B44-F48E-4C5F-AA15-3842DDB5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3E8-7BAA-4735-99A1-4EC254D0C1CC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CBA-440C-4D68-942B-5C0E6935693B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5D3F-7374-4DAE-862B-CA8E665AE1C6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09A7-94D3-48E4-9735-98C6CB58A739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5446-0104-4499-A677-4BD37A1385E6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434F-2D15-4A4A-8F26-F1E95048A423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9607-8453-4FF5-A7E4-CBCE3C3AADF1}" type="slidenum">
              <a:rPr b="0" lang="es-E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86064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900" spc="-1" strike="noStrike">
                <a:solidFill>
                  <a:srgbClr val="ffffff"/>
                </a:solidFill>
                <a:latin typeface="Candara"/>
              </a:rPr>
              <a:t>EL CLIMA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250920" y="587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ndara"/>
              </a:rPr>
              <a:t>4º DE PRIMA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1 Imagen" descr=""/>
          <p:cNvPicPr/>
          <p:nvPr/>
        </p:nvPicPr>
        <p:blipFill>
          <a:blip r:embed="rId1"/>
          <a:stretch/>
        </p:blipFill>
        <p:spPr>
          <a:xfrm>
            <a:off x="324000" y="5661000"/>
            <a:ext cx="1423800" cy="1015920"/>
          </a:xfrm>
          <a:prstGeom prst="rect">
            <a:avLst/>
          </a:prstGeom>
          <a:ln w="0">
            <a:noFill/>
          </a:ln>
        </p:spPr>
      </p:pic>
      <p:pic>
        <p:nvPicPr>
          <p:cNvPr id="338" name="3 Imagen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920000" cy="3291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0160" y="1483920"/>
            <a:ext cx="5272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0904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0904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Candara"/>
              </a:rPr>
              <a:t>La temperatura</a:t>
            </a: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. Si la temperatura es alta el tiempo es caluroso y si es baja el tiempo es frio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2" marL="76896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La temperatura se mide con el termómetro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0904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Candara"/>
              </a:rPr>
              <a:t>Las precipitaciones</a:t>
            </a: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: Se producen cuando el agua de las nubes cae a la tierra, en forma de 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2" marL="76896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lluvia, nieve y granizo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2" marL="76896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La cantidad de agua que cae se mide con el pluviómetro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1" marL="509040" indent="-25344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Candara"/>
              </a:rPr>
              <a:t>El Viento </a:t>
            </a: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se produce cuando el aire está en movimiento según su fuerza puede ser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3" marL="1036440" indent="-2538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brisa, vendaval y huracán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3" marL="1036440" indent="-2538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Medimos su velocidad en kilómetros por hora con el  anemómetro y su dirección con la  velet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lvl="3" marL="1036440" indent="-25380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Candara"/>
              </a:rPr>
              <a:t>El meteorólogo es la persona que predice el tiempo utilizando los anteriores datos y lo que indican los satélites artificiales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50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50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50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andara"/>
              </a:rPr>
              <a:t>El tiempo atmosférico: se compone de temperatura, precipitaciones y viento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1 Imagen" descr=""/>
          <p:cNvPicPr/>
          <p:nvPr/>
        </p:nvPicPr>
        <p:blipFill>
          <a:blip r:embed="rId1"/>
          <a:stretch/>
        </p:blipFill>
        <p:spPr>
          <a:xfrm>
            <a:off x="6440400" y="1125360"/>
            <a:ext cx="1308240" cy="1798920"/>
          </a:xfrm>
          <a:prstGeom prst="rect">
            <a:avLst/>
          </a:prstGeom>
          <a:ln w="0">
            <a:noFill/>
          </a:ln>
        </p:spPr>
      </p:pic>
      <p:pic>
        <p:nvPicPr>
          <p:cNvPr id="342" name="3 Imagen" descr=""/>
          <p:cNvPicPr/>
          <p:nvPr/>
        </p:nvPicPr>
        <p:blipFill>
          <a:blip r:embed="rId2"/>
          <a:stretch/>
        </p:blipFill>
        <p:spPr>
          <a:xfrm>
            <a:off x="7715160" y="1603440"/>
            <a:ext cx="1166760" cy="1922400"/>
          </a:xfrm>
          <a:prstGeom prst="rect">
            <a:avLst/>
          </a:prstGeom>
          <a:ln w="0">
            <a:noFill/>
          </a:ln>
        </p:spPr>
      </p:pic>
      <p:pic>
        <p:nvPicPr>
          <p:cNvPr id="343" name="4 Imagen" descr=""/>
          <p:cNvPicPr/>
          <p:nvPr/>
        </p:nvPicPr>
        <p:blipFill>
          <a:blip r:embed="rId3"/>
          <a:stretch/>
        </p:blipFill>
        <p:spPr>
          <a:xfrm>
            <a:off x="5580000" y="2997360"/>
            <a:ext cx="1656000" cy="1420560"/>
          </a:xfrm>
          <a:prstGeom prst="rect">
            <a:avLst/>
          </a:prstGeom>
          <a:ln w="0">
            <a:noFill/>
          </a:ln>
        </p:spPr>
      </p:pic>
      <p:pic>
        <p:nvPicPr>
          <p:cNvPr id="344" name="5 Imagen" descr=""/>
          <p:cNvPicPr/>
          <p:nvPr/>
        </p:nvPicPr>
        <p:blipFill>
          <a:blip r:embed="rId4"/>
          <a:stretch/>
        </p:blipFill>
        <p:spPr>
          <a:xfrm>
            <a:off x="7993080" y="3716280"/>
            <a:ext cx="888840" cy="1401840"/>
          </a:xfrm>
          <a:prstGeom prst="rect">
            <a:avLst/>
          </a:prstGeom>
          <a:ln w="0">
            <a:noFill/>
          </a:ln>
        </p:spPr>
      </p:pic>
      <p:pic>
        <p:nvPicPr>
          <p:cNvPr id="345" name="6 Imagen" descr=""/>
          <p:cNvPicPr/>
          <p:nvPr/>
        </p:nvPicPr>
        <p:blipFill>
          <a:blip r:embed="rId5"/>
          <a:stretch/>
        </p:blipFill>
        <p:spPr>
          <a:xfrm>
            <a:off x="5486400" y="4417920"/>
            <a:ext cx="1527120" cy="2286000"/>
          </a:xfrm>
          <a:prstGeom prst="rect">
            <a:avLst/>
          </a:prstGeom>
          <a:ln w="0">
            <a:noFill/>
          </a:ln>
        </p:spPr>
      </p:pic>
      <p:pic>
        <p:nvPicPr>
          <p:cNvPr id="346" name="7 Imagen" descr=""/>
          <p:cNvPicPr/>
          <p:nvPr/>
        </p:nvPicPr>
        <p:blipFill>
          <a:blip r:embed="rId6"/>
          <a:stretch/>
        </p:blipFill>
        <p:spPr>
          <a:xfrm>
            <a:off x="6950160" y="5176800"/>
            <a:ext cx="1931760" cy="1449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84000" y="1412640"/>
            <a:ext cx="784836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73e87"/>
                </a:solidFill>
                <a:latin typeface="Candara"/>
              </a:rPr>
              <a:t>Es el tiempo atmosférico que predomina en una zona a lo largo de varios años. El principal factor es su situación respecto a los polos: norte y sur, también influye la altitud, el relieve y la distancia al mar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b9899"/>
                </a:solidFill>
                <a:latin typeface="Candara"/>
              </a:rPr>
              <a:t>EL CLIM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1 Imagen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7775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84000" y="1773000"/>
            <a:ext cx="7407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Primavera, Verano, Otoño e Invierno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b9899"/>
                </a:solidFill>
                <a:latin typeface="Candara"/>
              </a:rPr>
              <a:t>Las estacion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3 Imagen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3079800" cy="1893600"/>
          </a:xfrm>
          <a:prstGeom prst="rect">
            <a:avLst/>
          </a:prstGeom>
          <a:ln w="0">
            <a:noFill/>
          </a:ln>
        </p:spPr>
      </p:pic>
      <p:pic>
        <p:nvPicPr>
          <p:cNvPr id="353" name="5 Imagen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2799000" cy="1893960"/>
          </a:xfrm>
          <a:prstGeom prst="rect">
            <a:avLst/>
          </a:prstGeom>
          <a:ln w="0">
            <a:noFill/>
          </a:ln>
        </p:spPr>
      </p:pic>
      <p:pic>
        <p:nvPicPr>
          <p:cNvPr id="354" name="6 Imagen" descr=""/>
          <p:cNvPicPr/>
          <p:nvPr/>
        </p:nvPicPr>
        <p:blipFill>
          <a:blip r:embed="rId3"/>
          <a:stretch/>
        </p:blipFill>
        <p:spPr>
          <a:xfrm>
            <a:off x="250920" y="4635360"/>
            <a:ext cx="3079800" cy="1754280"/>
          </a:xfrm>
          <a:prstGeom prst="rect">
            <a:avLst/>
          </a:prstGeom>
          <a:ln w="0">
            <a:noFill/>
          </a:ln>
        </p:spPr>
      </p:pic>
      <p:pic>
        <p:nvPicPr>
          <p:cNvPr id="355" name="7 Imagen" descr=""/>
          <p:cNvPicPr/>
          <p:nvPr/>
        </p:nvPicPr>
        <p:blipFill>
          <a:blip r:embed="rId4"/>
          <a:stretch/>
        </p:blipFill>
        <p:spPr>
          <a:xfrm>
            <a:off x="4716360" y="4508640"/>
            <a:ext cx="275112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684000" y="1557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Clima de la llanur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73e87"/>
                </a:solidFill>
                <a:latin typeface="Candara"/>
              </a:rPr>
              <a:t>Temperaturas muy contrastadas: veranos muy calurosos e inviernos fríos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73e87"/>
                </a:solidFill>
                <a:latin typeface="Candara"/>
              </a:rPr>
              <a:t>Precipitaciones escasas en primavera y otoño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73e87"/>
                </a:solidFill>
                <a:latin typeface="Candara"/>
              </a:rPr>
              <a:t>Clima de la montañ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73e87"/>
                </a:solidFill>
                <a:latin typeface="Candara"/>
              </a:rPr>
              <a:t>Temperaturas más bajas, en verano menos elevadas que en la llanura, y en invierno hace más frio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73e87"/>
                </a:solidFill>
                <a:latin typeface="Candara"/>
              </a:rPr>
              <a:t>Precipitaciones frecuentes durante todo el año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64480" indent="-26748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b9899"/>
                </a:solidFill>
                <a:latin typeface="Candara"/>
              </a:rPr>
              <a:t>El clima de Castilla la Manch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4 Imagen" descr=""/>
          <p:cNvPicPr/>
          <p:nvPr/>
        </p:nvPicPr>
        <p:blipFill>
          <a:blip r:embed="rId1"/>
          <a:stretch/>
        </p:blipFill>
        <p:spPr>
          <a:xfrm>
            <a:off x="7020000" y="5516640"/>
            <a:ext cx="1425600" cy="1017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3 Imagen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360" name="4 Imagen" descr=""/>
          <p:cNvPicPr/>
          <p:nvPr/>
        </p:nvPicPr>
        <p:blipFill>
          <a:blip r:embed="rId2"/>
          <a:stretch/>
        </p:blipFill>
        <p:spPr>
          <a:xfrm>
            <a:off x="177840" y="171360"/>
            <a:ext cx="21621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7:11:31Z</dcterms:created>
  <dc:creator>familia garcia</dc:creator>
  <dc:description/>
  <dc:language>en-US</dc:language>
  <cp:lastModifiedBy> </cp:lastModifiedBy>
  <dcterms:modified xsi:type="dcterms:W3CDTF">2015-03-11T22:32:48Z</dcterms:modified>
  <cp:revision>13</cp:revision>
  <dc:subject/>
  <dc:title>EL CLIMA</dc:title>
</cp:coreProperties>
</file>